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896-4C3B-4D04-8900-1EB442E0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9BA-6060-43D6-81D0-982D7B2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FB5-B25D-4D5F-BCA4-075D3E25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C15-F3F8-4D47-9632-AD75E33A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B166-E235-45A1-819B-148003BD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7545-7A62-4748-8219-9B12C4C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32FE-43BA-4E01-955A-FFCE840C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BCE6-AF60-448E-B99E-E005EFA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AE91-D262-44F9-A6B1-24BF4F4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EBC0-8BAF-4B28-8CA6-D6333532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E79-DF44-416C-8C1F-51557B4F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121-398E-42B8-A0BF-6288BAE3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73CD-F097-4634-8D1F-B93E5C45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0425-A00F-40A3-9BAF-2F245BB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AF92-DDE8-4993-A097-BEF709A0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ED63-CB04-4D7D-8B91-2A5D29CF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6FEC-BC85-4859-88C4-C30783E6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D5D-A975-494B-BA42-6F719992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ECF-4CB4-4B1A-90AD-1C8DAC1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4FD-3D2B-46BB-AD31-49AB456A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42C-E786-45B5-9F40-022C0E7F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365-97AE-470D-BC7F-36EC5AE9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054-2187-483F-A566-4B403D91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0DE-5573-4404-8740-35A719E6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E357-2F99-41EC-B49B-162594F5E075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5CD8-A10B-4D96-9FE9-DB316574FC3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07196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" name="logo100" descr=""/>
          <p:cNvPicPr/>
          <p:nvPr/>
        </p:nvPicPr>
        <p:blipFill>
          <a:blip r:embed="rId3"/>
          <a:stretch/>
        </p:blipFill>
        <p:spPr>
          <a:xfrm>
            <a:off x="1143000" y="45720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4F9F-1ACC-46A3-BFFD-09D81284B5FA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C6DE-2F55-45B5-8258-7E213D60094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196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7" name="logo100" descr=""/>
          <p:cNvPicPr/>
          <p:nvPr/>
        </p:nvPicPr>
        <p:blipFill>
          <a:blip r:embed="rId3"/>
          <a:stretch/>
        </p:blipFill>
        <p:spPr>
          <a:xfrm>
            <a:off x="1219320" y="3808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Everything You Ever Wanted to Know About Spacecraft Link Budgets . . .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ut Were Afraid to Ask.  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D108-068B-4A56-A73E-1B6D171B1E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3E17A2-2474-468F-A5A3-0FC920B2D4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78160" y="2895480"/>
            <a:ext cx="272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Arial Narrow"/>
              </a:rPr>
              <a:t>BITCH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1905120"/>
            <a:ext cx="3429000" cy="3429000"/>
          </a:xfrm>
          <a:prstGeom prst="ellipse">
            <a:avLst/>
          </a:prstGeom>
          <a:noFill/>
          <a:ln w="76320">
            <a:solidFill>
              <a:srgbClr val="b97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428640" y="2438280"/>
            <a:ext cx="2514600" cy="2438640"/>
          </a:xfrm>
          <a:prstGeom prst="line">
            <a:avLst/>
          </a:prstGeom>
          <a:ln w="76320">
            <a:solidFill>
              <a:srgbClr val="b97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9960" y="5638680"/>
            <a:ext cx="45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. . . Use This Link Model Inst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38D-6970-45A0-AD6F-2B0F12E3136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42279-AD8C-4049-BE7C-7769D44C87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Exam No. 2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 signal is received at a power level of –60 dBm.  The “white” noise in that receiver’s passband has a 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Arial"/>
              </a:rPr>
              <a:t>density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of 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110 dBm/Hz.  There is also some interference from a broadcast station that is received at a density of –115 dBm/Hz.  What is S/(No+Io)?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NSWER: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S is free;  it’s –60 dBm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To add N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and I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we must first “un-Log” the values, add them and “Re-Log” them: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YUCK, Again!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631-56DA-4664-9362-69319F9720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AC7A2-8EA5-4FDF-9E39-6025674A13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Exam No. 2 (Continued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o = -110 dBm/Hz = 1 X 10E-11 milliwatts/Hz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o = -115 dBm/Hz = 3.16 X 10E-12 milliwatts/Hz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o+Io = (1X10E-11) + (3.16X10E-12) = 1.316X10E-11 mW/Hz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n dB: (No+Io) = 10 X Log (1.316X10E-11) = -108.8 dBm/Hz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OW: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/(No+Io) = -60 –(-108.8) = 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48.8 dBHz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3F8-2504-4FCE-A61C-1D70EAA366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0358A-803F-4197-8596-C4116CBACA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Inserting a Transponder in a Link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181480"/>
            <a:ext cx="457200" cy="30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 Narrow"/>
              </a:rPr>
              <a:t>USER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9796400">
            <a:off x="2057040" y="4495680"/>
            <a:ext cx="7632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752480" y="4724280"/>
            <a:ext cx="45720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029200"/>
            <a:ext cx="0" cy="152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5181480"/>
            <a:ext cx="457200" cy="30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2804000">
            <a:off x="7467480" y="4419000"/>
            <a:ext cx="76320" cy="53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648320"/>
            <a:ext cx="609480" cy="380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5029200"/>
            <a:ext cx="0" cy="152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200400"/>
            <a:ext cx="4572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2438280"/>
            <a:ext cx="15228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3733920"/>
            <a:ext cx="152280" cy="53316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2971800"/>
            <a:ext cx="0" cy="2286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3505320"/>
            <a:ext cx="0" cy="2286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132200">
            <a:off x="4457520" y="3314160"/>
            <a:ext cx="304920" cy="76320"/>
          </a:xfrm>
          <a:custGeom>
            <a:avLst/>
            <a:gdLst>
              <a:gd name="textAreaLeft" fmla="*/ 66960 w 304920"/>
              <a:gd name="textAreaRight" fmla="*/ 237960 w 3049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382600">
            <a:off x="4990680" y="3314520"/>
            <a:ext cx="304920" cy="75960"/>
          </a:xfrm>
          <a:custGeom>
            <a:avLst/>
            <a:gdLst>
              <a:gd name="textAreaLeft" fmla="*/ 66960 w 304920"/>
              <a:gd name="textAreaRight" fmla="*/ 237960 w 3049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362320" y="3504960"/>
            <a:ext cx="1981080" cy="1143000"/>
          </a:xfrm>
          <a:prstGeom prst="line">
            <a:avLst/>
          </a:prstGeom>
          <a:ln w="9360">
            <a:solidFill>
              <a:srgbClr val="eaeaea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486400" y="3504960"/>
            <a:ext cx="1752480" cy="1066680"/>
          </a:xfrm>
          <a:prstGeom prst="line">
            <a:avLst/>
          </a:prstGeom>
          <a:ln w="9360">
            <a:solidFill>
              <a:srgbClr val="eaeaea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9520" y="3962520"/>
            <a:ext cx="52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T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EIRP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55080" y="3819600"/>
            <a:ext cx="42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R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G/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42560" y="292896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S/C RX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G/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9960" y="2895480"/>
            <a:ext cx="58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S/C TX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EIR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60520" y="5181480"/>
            <a:ext cx="59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eaeaea"/>
                </a:solidFill>
                <a:latin typeface="Arial Narrow"/>
              </a:rPr>
              <a:t>USER 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0920" y="365760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b40"/>
                </a:solidFill>
                <a:latin typeface="Arial Narrow"/>
              </a:rPr>
              <a:t>(     )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2000" y="3733920"/>
            <a:ext cx="6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ab40"/>
                </a:solidFill>
                <a:latin typeface="Arial Narrow"/>
              </a:rPr>
              <a:t>S/No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7360" y="396864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cab40"/>
                </a:solidFill>
                <a:latin typeface="Arial Narrow"/>
              </a:rPr>
              <a:t>U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0560" y="4626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ab40"/>
                </a:solidFill>
                <a:latin typeface="Arial Narrow"/>
              </a:rPr>
              <a:t>(</a:t>
            </a:r>
            <a:r>
              <a:rPr b="1" lang="en-US" sz="1600" spc="-1" strike="noStrike">
                <a:solidFill>
                  <a:srgbClr val="fcab40"/>
                </a:solidFill>
                <a:latin typeface="Arial Narrow"/>
              </a:rPr>
              <a:t>S/No</a:t>
            </a:r>
            <a:r>
              <a:rPr b="1" lang="en-US" sz="2400" spc="-1" strike="noStrike">
                <a:solidFill>
                  <a:srgbClr val="fcab40"/>
                </a:solidFill>
                <a:latin typeface="Arial Narrow"/>
              </a:rPr>
              <a:t>)</a:t>
            </a:r>
            <a:r>
              <a:rPr b="1" lang="en-US" sz="1600" spc="-1" strike="noStrike">
                <a:solidFill>
                  <a:srgbClr val="fcab4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6040" y="495936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cab40"/>
                </a:solidFill>
                <a:latin typeface="Arial Narrow"/>
              </a:rPr>
              <a:t>DOW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880" y="56736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     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(S/No)</a:t>
            </a:r>
            <a:r>
              <a:rPr b="1" lang="en-US" sz="1000" spc="-1" strike="noStrike">
                <a:solidFill>
                  <a:srgbClr val="fcab40"/>
                </a:solidFill>
                <a:latin typeface="Arial Narrow"/>
              </a:rPr>
              <a:t>TOTA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752120" y="5867280"/>
            <a:ext cx="2514600" cy="0"/>
          </a:xfrm>
          <a:prstGeom prst="line">
            <a:avLst/>
          </a:prstGeom>
          <a:ln w="9360">
            <a:solidFill>
              <a:srgbClr val="eaeaea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5867280"/>
            <a:ext cx="2666880" cy="0"/>
          </a:xfrm>
          <a:prstGeom prst="line">
            <a:avLst/>
          </a:prstGeom>
          <a:ln w="9360">
            <a:solidFill>
              <a:srgbClr val="eaeaea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5791320"/>
            <a:ext cx="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5791320"/>
            <a:ext cx="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862-2B1C-4D30-AB81-775A18AF9F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BE82C-0613-46EA-87CC-1E94603537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Who’s Responsible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EIRP and G/T -&gt; That’s Who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95280" y="2438280"/>
          <a:ext cx="6705720" cy="3353040"/>
        </p:xfrm>
        <a:graphic>
          <a:graphicData uri="http://schemas.openxmlformats.org/drawingml/2006/table">
            <a:tbl>
              <a:tblPr/>
              <a:tblGrid>
                <a:gridCol w="3352680"/>
                <a:gridCol w="33530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CHARACTERISTIC: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ESTABLISHES: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SER EIRP and S/C “G”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(S/C Received Signal Power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/C “T”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S/C Received Noise Power Density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/C EIRP and USER “G”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User Received Signal Power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SER “T”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ser Received Noise Power Densit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rot="16180800">
            <a:off x="627840" y="36280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ab40"/>
                </a:solidFill>
                <a:latin typeface="Arial Narrow"/>
              </a:rPr>
              <a:t>UPLINK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98960" y="49867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ab40"/>
                </a:solidFill>
                <a:latin typeface="Arial Narrow"/>
              </a:rPr>
              <a:t>DOWNLINK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1240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4419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57913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90720" y="312372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038480"/>
            <a:ext cx="0" cy="381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90720" y="4419720"/>
            <a:ext cx="0" cy="304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556272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748-701C-4461-8592-754848BC47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FDE55-F218-4D7D-80A9-E25B8BABC4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ebd189"/>
                </a:solidFill>
                <a:latin typeface="Arial"/>
              </a:rPr>
              <a:t>MAGIC</a:t>
            </a: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 Formula!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r a Spacecraft Link Using a “Bent Pipe” Transponder: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(S/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)   =              1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                1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(S/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)         (S/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4267080"/>
            <a:ext cx="36576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4952880"/>
            <a:ext cx="11430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40120" y="46483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4760" y="411480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42960" y="56484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UP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63868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DOW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242-1F40-42EC-8C83-FC3C65D634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DC5D9-A5B1-4AAE-BB8B-3D72051363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How Does the Magic Formula Work?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OTE:  It’s the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Sam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Formula as the Parallel Resistor Formula.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(S/No)TOTAL  will be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 (S/No)UP  or (S/No)DOWN, Whichever is Smaller.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r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Finit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Values of (S/No)UP and (S/No)DOWN, the Total Link Result will ALWAYS be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Poorer than the Poorest of the Two Links.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ATCH…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765-DD73-4019-B044-63FF9FE14B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A9ADF-AB8E-42F1-AA5D-8DDF4B638D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Exam No. 3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3429000"/>
            <a:ext cx="457200" cy="12952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2971800"/>
            <a:ext cx="0" cy="45720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4724280"/>
            <a:ext cx="0" cy="45720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3429000"/>
            <a:ext cx="457200" cy="12952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2971800"/>
            <a:ext cx="0" cy="45720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4724280"/>
            <a:ext cx="0" cy="45720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76720" y="2971800"/>
            <a:ext cx="3657600" cy="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276720" y="5181480"/>
            <a:ext cx="3657600" cy="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2895480"/>
            <a:ext cx="152640" cy="152640"/>
          </a:xfrm>
          <a:prstGeom prst="ellipse">
            <a:avLst/>
          </a:prstGeom>
          <a:noFill/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5105520"/>
            <a:ext cx="152640" cy="152280"/>
          </a:xfrm>
          <a:prstGeom prst="ellipse">
            <a:avLst/>
          </a:prstGeom>
          <a:noFill/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58600" y="380844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R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= 1 Meg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60680" y="380988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R</a:t>
            </a: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= 1K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8680" y="371952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total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 =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26D-610F-4ED8-BBA5-6897473A52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AC0AD-7099-4C00-9EF0-95F6A3585E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Exam No. 3 Result: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otal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=   999.0 </a:t>
            </a:r>
            <a:r>
              <a:rPr b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1K</a:t>
            </a:r>
            <a:r>
              <a:rPr b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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 1 Meg Ohm Resistor had ALMOST NO Effect on the Total Circuit Resistance.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 Circuit was Dominated by the 1 K Ohm Resistor.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TOTAL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as LESS than the Smallest Resistor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71D-81E4-4083-9698-B2BC443614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964AF-0BBC-4153-B366-0CFDFD4985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d189"/>
                </a:solidFill>
                <a:latin typeface="Arial"/>
              </a:rPr>
              <a:t>Magic Formula Result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14400" y="1676520"/>
          <a:ext cx="80773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80773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619-6F76-46BB-A108-162247D5FA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CB2E4-EB89-47D8-AF9C-11381AEB9C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S/N: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You may have seen it written as:  SNR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t’s the “Signal-to-Noise Ratio”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gnal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Power Level of Signal in Occupied Bandwidth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Units:  dBW or dBm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oise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Noise Power in Occupied Bandwidth or Receiver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ilter Bandwidth.                                             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Units: dBW or dBm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o, S/N is dimensionless:  Units are in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dB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6F6-CA5B-46C1-83BE-6408606940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75C1D-D450-41A2-8640-0D62A459A1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Intermodulation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istortion Products Produced by the User or Spacecraft Transmitter.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ese Distortion Products are Created by Power Amplifier: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Non-Linear Transfer Characteristics  (A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Saturation Characteristics (B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6019920"/>
            <a:ext cx="601956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05120" y="3581280"/>
            <a:ext cx="0" cy="24386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784680"/>
            <a:ext cx="5562360" cy="2235240"/>
          </a:xfrm>
          <a:custGeom>
            <a:avLst/>
            <a:gdLst/>
            <a:ahLst/>
            <a:rect l="l" t="t" r="r" b="b"/>
            <a:pathLst>
              <a:path w="3504" h="1408">
                <a:moveTo>
                  <a:pt x="0" y="1408"/>
                </a:moveTo>
                <a:cubicBezTo>
                  <a:pt x="500" y="1180"/>
                  <a:pt x="1000" y="952"/>
                  <a:pt x="1296" y="832"/>
                </a:cubicBezTo>
                <a:cubicBezTo>
                  <a:pt x="1592" y="712"/>
                  <a:pt x="1568" y="808"/>
                  <a:pt x="1776" y="688"/>
                </a:cubicBezTo>
                <a:cubicBezTo>
                  <a:pt x="1984" y="568"/>
                  <a:pt x="2312" y="224"/>
                  <a:pt x="2544" y="112"/>
                </a:cubicBezTo>
                <a:cubicBezTo>
                  <a:pt x="2776" y="0"/>
                  <a:pt x="3008" y="16"/>
                  <a:pt x="3168" y="16"/>
                </a:cubicBezTo>
                <a:cubicBezTo>
                  <a:pt x="3328" y="16"/>
                  <a:pt x="3416" y="64"/>
                  <a:pt x="3504" y="112"/>
                </a:cubicBezTo>
              </a:path>
            </a:pathLst>
          </a:custGeom>
          <a:noFill/>
          <a:ln w="2844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7400" y="449568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P</a:t>
            </a: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OU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2440" y="6172200"/>
            <a:ext cx="4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P</a:t>
            </a: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I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95680"/>
            <a:ext cx="1067040" cy="76212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3581280"/>
            <a:ext cx="1676520" cy="6098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0800" y="4114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30480" y="32004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C0A-CBF8-4968-AC2C-F04F13FE41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6A9EA-5F42-406F-8293-1A1E03CEA7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wo Tone Intermodulation Method</a:t>
            </a:r>
            <a:br>
              <a:rPr sz="24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(Useful for Narrowband Signal Structures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5715000"/>
            <a:ext cx="7315200" cy="0"/>
          </a:xfrm>
          <a:prstGeom prst="line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90720" y="2361960"/>
            <a:ext cx="0" cy="3352680"/>
          </a:xfrm>
          <a:prstGeom prst="line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5715000"/>
            <a:ext cx="0" cy="152280"/>
          </a:xfrm>
          <a:prstGeom prst="line">
            <a:avLst/>
          </a:prstGeom>
          <a:ln w="1908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2743200"/>
            <a:ext cx="0" cy="297180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2743200"/>
            <a:ext cx="0" cy="297180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191120"/>
            <a:ext cx="0" cy="15238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4191120"/>
            <a:ext cx="0" cy="15238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4648320"/>
            <a:ext cx="0" cy="10666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4680" y="4648320"/>
            <a:ext cx="0" cy="10666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29600" y="59198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3600" y="2286000"/>
            <a:ext cx="3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0" y="2286000"/>
            <a:ext cx="3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55800" y="3733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2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– 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120" y="19051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Signal Amplitude (dBW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34120" y="59022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requency </a:t>
            </a:r>
            <a:r>
              <a:rPr b="1" lang="en-US" sz="1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70720" y="4267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3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– 2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7120" y="38098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2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– 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8520" y="41911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3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– 2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800600" y="2438280"/>
            <a:ext cx="0" cy="3200400"/>
          </a:xfrm>
          <a:prstGeom prst="line">
            <a:avLst/>
          </a:prstGeom>
          <a:ln w="1908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BE7-747B-49F9-8206-AC6E10B774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E7B64-FFA8-4DF0-96D2-20DB43F12F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0720" y="5715000"/>
            <a:ext cx="7315200" cy="0"/>
          </a:xfrm>
          <a:prstGeom prst="line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990720" y="2361960"/>
            <a:ext cx="0" cy="3352680"/>
          </a:xfrm>
          <a:prstGeom prst="line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5715000"/>
            <a:ext cx="0" cy="152280"/>
          </a:xfrm>
          <a:prstGeom prst="line">
            <a:avLst/>
          </a:prstGeom>
          <a:ln w="1908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2743200"/>
            <a:ext cx="0" cy="297180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743200"/>
            <a:ext cx="0" cy="297180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191120"/>
            <a:ext cx="0" cy="15238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4191120"/>
            <a:ext cx="0" cy="15238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4648320"/>
            <a:ext cx="0" cy="10666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24680" y="4648320"/>
            <a:ext cx="0" cy="10666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29600" y="59198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3600" y="2286000"/>
            <a:ext cx="3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0" y="2286000"/>
            <a:ext cx="3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55800" y="3733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2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– 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20" y="19051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Signal Amplitude (dBW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34120" y="59022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requency </a:t>
            </a:r>
            <a:r>
              <a:rPr b="1" lang="en-US" sz="1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70720" y="4267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3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– 2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7120" y="38098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2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– 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8520" y="41911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3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1</a:t>
            </a: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– 2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800600" y="2438280"/>
            <a:ext cx="0" cy="3200400"/>
          </a:xfrm>
          <a:prstGeom prst="line">
            <a:avLst/>
          </a:prstGeom>
          <a:ln w="1908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2438280"/>
            <a:ext cx="5335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2438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743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274320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05740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4880" y="1752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- 3 d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280" y="533520"/>
            <a:ext cx="62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wo Tone Intermodulation Method</a:t>
            </a:r>
            <a:br>
              <a:rPr sz="24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(Useful for Narrowband Signal Structur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419112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8520" y="2438280"/>
            <a:ext cx="1447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0120" y="243828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0120" y="350532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84560" y="312408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-9 dB </a:t>
            </a: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[Hard Limiter]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02400" y="15238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IMR (Two Tone) = 9 d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1447920"/>
            <a:ext cx="2209680" cy="4572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E6E-6762-464C-8745-9AF12DB2165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30909-CE26-48E3-9089-AA53817C59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12800" y="685800"/>
            <a:ext cx="59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Noise Power Ratio Method</a:t>
            </a:r>
            <a:br>
              <a:rPr sz="24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(Useful for Wideband Signal Structur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4495680" y="2743200"/>
            <a:ext cx="2438280" cy="2133360"/>
          </a:xfrm>
          <a:prstGeom prst="triangle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3809880"/>
            <a:ext cx="381240" cy="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781320" y="3809880"/>
            <a:ext cx="381240" cy="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3276720"/>
            <a:ext cx="106668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819520" y="3809880"/>
            <a:ext cx="380880" cy="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noFill/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3733920"/>
            <a:ext cx="152280" cy="152280"/>
          </a:xfrm>
          <a:prstGeom prst="ellipse">
            <a:avLst/>
          </a:prstGeom>
          <a:noFill/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32080" y="358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 Narrow"/>
              </a:rPr>
              <a:t>HP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3505320"/>
            <a:ext cx="228600" cy="0"/>
          </a:xfrm>
          <a:prstGeom prst="line">
            <a:avLst/>
          </a:prstGeom>
          <a:ln w="381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381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3505320"/>
            <a:ext cx="152640" cy="685800"/>
          </a:xfrm>
          <a:prstGeom prst="line">
            <a:avLst/>
          </a:prstGeom>
          <a:ln w="381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733560" y="3505320"/>
            <a:ext cx="152280" cy="685800"/>
          </a:xfrm>
          <a:prstGeom prst="line">
            <a:avLst/>
          </a:prstGeom>
          <a:ln w="381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10960" y="3962520"/>
            <a:ext cx="3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4"/>
                </a:solidFill>
                <a:latin typeface="Arial Narrow"/>
              </a:rPr>
              <a:t>f</a:t>
            </a: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4320" y="2666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Notch Fil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040" y="3352680"/>
            <a:ext cx="117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Wideband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Sig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(Bandwidth B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80988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94040" y="3200400"/>
            <a:ext cx="10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Amplifie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Wideb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Sig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(Output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3809880"/>
            <a:ext cx="0" cy="1752840"/>
          </a:xfrm>
          <a:prstGeom prst="line">
            <a:avLst/>
          </a:prstGeom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5562720"/>
            <a:ext cx="152280" cy="152280"/>
          </a:xfrm>
          <a:prstGeom prst="ellipse">
            <a:avLst/>
          </a:prstGeom>
          <a:noFill/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7760" y="548640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Amplifier Input Signal (Test Point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460-5758-44D5-BB0F-0F8797357C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869A6-F5C6-413D-AC6F-0DDDAA51FE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Noise Power Ratio Method</a:t>
            </a:r>
            <a:br>
              <a:rPr sz="2400"/>
            </a:b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(Useful for Wideband Signal Structures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5638680"/>
            <a:ext cx="7391160" cy="0"/>
          </a:xfrm>
          <a:prstGeom prst="line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219320" y="1981080"/>
            <a:ext cx="0" cy="3657600"/>
          </a:xfrm>
          <a:prstGeom prst="line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523880" y="2819160"/>
            <a:ext cx="381240" cy="28191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7772400" y="2819160"/>
            <a:ext cx="380880" cy="28191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029200" y="2819520"/>
            <a:ext cx="228600" cy="1752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4419360" y="2819520"/>
            <a:ext cx="228600" cy="1752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819520"/>
            <a:ext cx="25146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2819520"/>
            <a:ext cx="25146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2640" y="2819520"/>
            <a:ext cx="152280" cy="0"/>
          </a:xfrm>
          <a:prstGeom prst="line">
            <a:avLst/>
          </a:prstGeom>
          <a:ln w="1908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4572000"/>
            <a:ext cx="38088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76920" y="5638680"/>
            <a:ext cx="0" cy="152640"/>
          </a:xfrm>
          <a:prstGeom prst="line">
            <a:avLst/>
          </a:prstGeom>
          <a:ln w="1908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20574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2209680"/>
            <a:ext cx="259056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2209680"/>
            <a:ext cx="2590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20574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9400" y="20574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142640" y="4572000"/>
            <a:ext cx="152280" cy="0"/>
          </a:xfrm>
          <a:prstGeom prst="line">
            <a:avLst/>
          </a:prstGeom>
          <a:ln w="1908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371240" y="4572000"/>
            <a:ext cx="304812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16360" y="584352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f</a:t>
            </a: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81952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457200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281952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388620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4440" y="35053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- 40 d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5960" y="160020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Amplifier Input Sig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0080" y="154764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 Narrow"/>
              </a:rPr>
              <a:t>Signal Amplitude (dBW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7520" y="586728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requency </a:t>
            </a:r>
            <a:r>
              <a:rPr b="1" lang="en-US" sz="1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22C-86FE-493B-B465-B12DF92528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79C0A-E34B-4D2C-9561-89E09E264B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19320" y="5638680"/>
            <a:ext cx="7391160" cy="0"/>
          </a:xfrm>
          <a:prstGeom prst="line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19320" y="1981080"/>
            <a:ext cx="0" cy="3657600"/>
          </a:xfrm>
          <a:prstGeom prst="line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523880" y="2819160"/>
            <a:ext cx="381240" cy="28191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7772400" y="2819160"/>
            <a:ext cx="380880" cy="28191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29200" y="2819520"/>
            <a:ext cx="228600" cy="1752480"/>
          </a:xfrm>
          <a:prstGeom prst="line">
            <a:avLst/>
          </a:prstGeom>
          <a:ln w="190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419360" y="2819520"/>
            <a:ext cx="228600" cy="1752480"/>
          </a:xfrm>
          <a:prstGeom prst="line">
            <a:avLst/>
          </a:prstGeom>
          <a:ln w="190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2819520"/>
            <a:ext cx="25146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7800" y="2819520"/>
            <a:ext cx="25146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142640" y="2819520"/>
            <a:ext cx="152280" cy="0"/>
          </a:xfrm>
          <a:prstGeom prst="line">
            <a:avLst/>
          </a:prstGeom>
          <a:ln w="1908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4572000"/>
            <a:ext cx="380880" cy="0"/>
          </a:xfrm>
          <a:prstGeom prst="line">
            <a:avLst/>
          </a:prstGeom>
          <a:ln w="190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5638680"/>
            <a:ext cx="0" cy="152640"/>
          </a:xfrm>
          <a:prstGeom prst="line">
            <a:avLst/>
          </a:prstGeom>
          <a:ln w="1908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20574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2209680"/>
            <a:ext cx="259056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2209680"/>
            <a:ext cx="2590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772400" y="20574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9400" y="20574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42640" y="4572000"/>
            <a:ext cx="152280" cy="0"/>
          </a:xfrm>
          <a:prstGeom prst="line">
            <a:avLst/>
          </a:prstGeom>
          <a:ln w="1908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371240" y="4572000"/>
            <a:ext cx="304812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5360" y="5867280"/>
            <a:ext cx="3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</a:t>
            </a:r>
            <a:r>
              <a:rPr b="1" lang="en-US" sz="1200" spc="-1" strike="noStrike">
                <a:solidFill>
                  <a:srgbClr val="eaeaea"/>
                </a:solidFill>
                <a:latin typeface="Arial Narrow"/>
              </a:rPr>
              <a:t>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81952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457200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281952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388620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4440" y="35053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- 40 d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7480" y="16002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Amplifier Output Sig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0080" y="154764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 Narrow"/>
              </a:rPr>
              <a:t>Signal Amplitude (dBW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7520" y="586728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Frequency </a:t>
            </a:r>
            <a:r>
              <a:rPr b="1" lang="en-US" sz="1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3429000"/>
            <a:ext cx="6858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19720" y="2819520"/>
            <a:ext cx="75960" cy="609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181480" y="2819520"/>
            <a:ext cx="76320" cy="609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4120" y="342900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2438280"/>
            <a:ext cx="0" cy="38124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867280" y="3429000"/>
            <a:ext cx="0" cy="38088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4191120"/>
            <a:ext cx="0" cy="3045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9280" y="38098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- 15 d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9120" y="48769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IMR (Via NPR) = 15 d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4876920"/>
            <a:ext cx="2209680" cy="3808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8040" y="533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Noise Power Rati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[ “Slot IM” ]  Method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8FD-184F-479E-9CE7-840DE55798B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8D5EE-F063-4686-AAE4-64111C88CE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Want a Copy of the Link Model?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ontact me at: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w3gey@amsat.org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DAD-227F-4FAE-85D8-CD7CB2450C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819B7-19F7-4FEA-BF54-FB66522F3E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/N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Power of the signal but, expressed as a carrier with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    essentially no bandwidth.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Units:  dBm or dBW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Noise power in occupied bandwidth or receiver filter         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   bandwidth.  [It’s really QR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Units: dBm or dBW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o, C/N is dimensionless:  Units are in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dB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362-C99E-461D-98A7-2FC97F6FA5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DAFB7-990D-4C3F-8840-0522BCE75E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For Our Purposes: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S/N = C/N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Let’s decide to use the more familiar S/N.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097-54F3-4B7D-ABEB-5DD2ABFB85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30E20-4A3E-4014-BE03-A9225D852F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Exam No. 1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 signal has a received power level of 1 mW and a noise level of 1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.  What is the S/N?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NSWER: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 mW = .001 Watts 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 = 10 X Log ( 0.001) = 10 X (-3) = -30 dBW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 = 0.000001 Watts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 = 10 X Log (0.000001) = 10 X(-6) = -60 dBW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OW:  DON’T DIVIDE -&gt;  SUBTRACT: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/N = -30 – (-60) = 30 dB   NOTE:  The “Watts” Cancelled.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5FF-C1AB-4C97-8C15-F201FF5FB6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E8888-B52C-479D-9FC7-0B1DE32879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/No or S/No: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S,C </a:t>
            </a:r>
            <a:r>
              <a:rPr b="1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Signal (or Carrier) Power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Units:  dBm or dBW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Noise Power Per Unit of Bandwidth = Noise Power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Density.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Units:  dBm/Hz or dBW/Hz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S/No </a:t>
            </a:r>
            <a:r>
              <a:rPr b="1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Signal to Noise Power Density Ratio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Units = dBW/(dBW/Hz) = 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Arial"/>
              </a:rPr>
              <a:t>dBHz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S/No is the S/N in a 1 Hz Bandwidth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C0E-23E9-4DFC-8749-67EB1A45D8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A78DF-9EFC-431B-AEE7-0CDE87F20B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I and I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All the Power from an Interference Source [QRM] 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Units:  dBm or dBW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Interference Power Density = Power per Unit of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   Bandwidth.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Units: dBm/Hz or dbW/Hz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083-8187-4AF7-8E3C-9156BA4E2D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4DC19-5FD0-4044-9B15-4EEDAB6D57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S/(N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+ I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gnal to Combined Noise Plus Interference Power Density.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Units:  dBHz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EMEMBER? --  How Do You Add dBs?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84A-5695-46E8-BD9A-046991E023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D75FF-9D54-4A27-A261-AD822593AC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NSWER:  YOU DON’T!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YOU MUST ADD THE TWO “UN-LOGGED” NUMBERS  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IRST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YUCK!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k Budgets - W3G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AD7-CADF-4914-BA01-94D0C31D9C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DA536-514C-496C-9DDF-A95B156F47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59Z</dcterms:created>
  <dc:creator>Jan King</dc:creator>
  <dc:description/>
  <dc:language>en-US</dc:language>
  <cp:lastModifiedBy>Jan King</cp:lastModifiedBy>
  <dcterms:modified xsi:type="dcterms:W3CDTF">2001-10-04T00:02:38Z</dcterms:modified>
  <cp:revision>32</cp:revision>
  <dc:subject/>
  <dc:title>Everything You Ever Wanted to Know About Spacecraft Link Budgets . . .</dc:title>
</cp:coreProperties>
</file>