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143000" y="-1143000"/>
            <a:ext cx="6848640" cy="913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20600"/>
            <a:ext cx="46483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09800" y="-2762280"/>
            <a:ext cx="401652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522144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14760" y="152280"/>
            <a:ext cx="392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24160" y="7920"/>
            <a:ext cx="476244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0480" y="152280"/>
            <a:ext cx="471636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9880" y="-152280"/>
            <a:ext cx="531324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71520" y="590400"/>
            <a:ext cx="48387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5080" y="-152280"/>
            <a:ext cx="439884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66600"/>
            <a:ext cx="48769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876320" y="-171360"/>
            <a:ext cx="483084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-282600"/>
            <a:ext cx="563724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-266760"/>
            <a:ext cx="5562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71280"/>
            <a:ext cx="504972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52560" y="-228600"/>
            <a:ext cx="4419720" cy="75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90760" y="14400"/>
            <a:ext cx="492444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333520" y="0"/>
            <a:ext cx="4608360" cy="64771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33840" y="2219400"/>
            <a:ext cx="1432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6640" y="0"/>
            <a:ext cx="46944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19240" y="-276120"/>
            <a:ext cx="5600520" cy="72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95560" y="343080"/>
            <a:ext cx="52196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-282600"/>
            <a:ext cx="5773680" cy="73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4200" y="304920"/>
            <a:ext cx="557208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43280" y="609480"/>
            <a:ext cx="558972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 Krome  KA9LNV</dc:creator>
  <dc:description/>
  <dc:language>en-US</dc:language>
  <cp:lastModifiedBy>Ed Krome</cp:lastModifiedBy>
  <cp:revision>0</cp:revision>
  <dc:subject>Entire P3D Groundstation slide show</dc:subject>
  <dc:title>P3D_SHOW</dc:title>
</cp:coreProperties>
</file>