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ct" ContentType="image/x-pict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040-38B5-479E-8AD9-41EB2F22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010-C385-4B38-86E5-1C76BB6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76C-84A4-493F-8B22-EE9C54C6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40B-765F-4F54-B4E4-0B6BB536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0A14-D456-4A1B-9F08-C64DBE04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6D1D-EA7F-498E-9AD8-ED85AC78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8741-1245-4061-859B-021D2BD0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760D-6A76-489A-92F0-6F247B3F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92F1-6D5A-49F8-9E24-26F1E22A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E68D-EC18-405F-82BB-3857ABF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BD28-B2A4-4813-9A34-760EE84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D2D-EB8C-494C-9682-B412BAC7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D441-84AD-4E92-A4E8-D516444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75C9-6819-4870-85C5-3201947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D24-6844-40FF-96EA-AF053F5C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315E-DEF4-4EC6-A06A-D1A37640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174-D729-40F8-AB1C-876BAE6E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ED1-1BC0-4A72-93ED-F5DCBF2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585-C786-4477-AC0B-6AC65EBE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5EE-8EB8-4A65-B5AC-8C82F5B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3DD-A98A-44E2-AC3D-F965B7E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A14-9EB4-40F1-9F53-933BEF2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733-FF3A-4AC1-B856-399E8C2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81C-20E2-4BC3-BE53-4CC7B98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47712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u McFadin W5D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3C5C-5A61-465B-BAB9-AE01431400A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749160" cy="74916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4"/>
          <a:stretch/>
        </p:blipFill>
        <p:spPr>
          <a:xfrm>
            <a:off x="8077320" y="304920"/>
            <a:ext cx="69372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C3B7-0320-427F-B34E-DC672EBBA0C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914400"/>
            <a:ext cx="9144000" cy="4038480"/>
            <a:chOff x="0" y="-914400"/>
            <a:chExt cx="9144000" cy="4038480"/>
          </a:xfrm>
        </p:grpSpPr>
        <p:sp>
          <p:nvSpPr>
            <p:cNvPr id="59" name=""/>
            <p:cNvSpPr/>
            <p:nvPr/>
          </p:nvSpPr>
          <p:spPr>
            <a:xfrm>
              <a:off x="0" y="-91440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2590920"/>
              <a:ext cx="9137520" cy="380160"/>
              <a:chOff x="0" y="2590920"/>
              <a:chExt cx="9137520" cy="38016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0" y="26128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7064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5909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0" y="29260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6992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3240" y="29718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749160" cy="749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077320" y="304920"/>
            <a:ext cx="693720" cy="676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34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300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SuitSat-2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1560" y="2097000"/>
            <a:ext cx="3281400" cy="3208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176440" y="5211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u McFa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5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Suitsat-1 Block Diagram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43040" y="187488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Proposed Suitsat-2 Block Diagram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874880"/>
            <a:ext cx="585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Next steps for Suitsat-2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fine requiremen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fine Tasks and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fine Schedu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ini TIM meeting in Houston in Jul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unding 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Suit Diagram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11480" y="1874880"/>
          <a:ext cx="471960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1874880"/>
                    <a:ext cx="471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22cd"/>
                </a:solidFill>
                <a:latin typeface="Lucida Grande"/>
              </a:rPr>
              <a:t>SuitSat-2 Mission and Capabilities</a:t>
            </a:r>
            <a:endParaRPr b="1" lang="en-US" sz="1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Primary miss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Voice messages Commemorating (TBD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is includes audio greetings from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nergia, ARISS Europe, ARISS Canada, ARISS U.S.A. ARISS Japa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 CD ROM with photos contributed from schools around the world.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econdary Miss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estbed for systems planned for future Amateur radio satellit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mateur operation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Packet op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SB Transponde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FM Cross band repeate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STV images of Earth and Sta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xperiments (TBD-TSFR (This space for rent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The Proposed Plan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upon Suitsat-1 desig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use safety interlock circui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er and Receiver module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HU Modu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anel same as Suitsat-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ower module for solar panel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Panel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Four Experimen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Temperature Senso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Four cameras for SSTV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design so that late subsystems can be delet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Future Concept Testbed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55"/>
                </a:solidFill>
                <a:latin typeface="Arial"/>
              </a:rPr>
              <a:t>Use as a test bed for new concepts for future Amateur radio Satellite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</a:rPr>
              <a:t>Eagle power system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</a:rPr>
              <a:t>Max power point converters for solar panel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</a:rPr>
              <a:t>Distributed Converter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</a:rPr>
              <a:t>Distributed Storage system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</a:rPr>
              <a:t>Software Defined Radio (SDR) Prototype 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</a:rPr>
              <a:t>Backup off the shelf Tx/Rx design pursued in parall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</a:rPr>
              <a:t>Additional experimen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SSTV 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AppleGothic"/>
              </a:rPr>
              <a:t>SSTV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Four video ports (NTSC or pal by agreement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No power until switched on just before data tak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Two U.S. Supplie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Two Russian supplie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No blank vide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ppleGothic"/>
                <a:ea typeface="AppleGothic"/>
              </a:rPr>
              <a:t>Processor examines video and skips if no image presen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Experiments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por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por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reserved for MicroChip (Supplier of electronics) non commercial.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for other experiment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ackets to be 2k Bytes transferred on request from the IHU.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Radio Module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AppleGothic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55"/>
                </a:solidFill>
                <a:latin typeface="Arial"/>
                <a:ea typeface="AppleGothic"/>
              </a:rPr>
              <a:t>Two path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SDR Eagle prototyp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AppleGothic"/>
              </a:rPr>
              <a:t>Multimod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ヒラギノ角ゴ Pro W3"/>
              </a:rPr>
              <a:t>SSB Crossband (U/V) </a:t>
            </a: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AppleGothic"/>
              </a:rPr>
              <a:t>Transponder repeater with Telemetry beac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AppleGothic"/>
              </a:rPr>
              <a:t>FM-FM Cross band (U/V) packet </a:t>
            </a: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ヒラギノ角ゴ Pro W3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AppleGothic"/>
              </a:rPr>
              <a:t>Multiple signals simultaneously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Arial"/>
                <a:ea typeface="AppleGothic"/>
              </a:rPr>
              <a:t>Simple Cross band Radi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AppleGothic"/>
              </a:rPr>
              <a:t>70 CM uplink 2M downlink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5555"/>
                </a:solidFill>
                <a:latin typeface="Arial"/>
                <a:ea typeface="AppleGothic"/>
              </a:rPr>
              <a:t>2M FM voice and SSTV beac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Lucida Grande"/>
              </a:rPr>
              <a:t>Solar Power System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uld be an experimental Flexible Solar panel similar to that used by the U.S. military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uld be a prototype of the Eagle Solar pane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ASA suppli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ussian suppli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ower converter based on planned  Eagle desig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signed to be placed in series with the surplus ISS batteri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sign such that if no Solar panel is available, it can be deleted and the batteries connected the same as Suitsat-1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6:59:11Z</dcterms:created>
  <dc:creator>Lou McFadin</dc:creator>
  <dc:description/>
  <dc:language>en-US</dc:language>
  <cp:lastModifiedBy>Lou McFadin</cp:lastModifiedBy>
  <dcterms:modified xsi:type="dcterms:W3CDTF">2006-05-29T23:04:31Z</dcterms:modified>
  <cp:revision>11</cp:revision>
  <dc:subject/>
  <dc:title>SuitSat-2</dc:title>
</cp:coreProperties>
</file>