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885-66FB-457C-9C16-A95654C7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A58-2AB6-4D72-8B58-C51D2FC1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931-01D9-4A09-B94C-770AF19B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120-81A6-4201-A81A-D0D9E80C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3AF-2D23-4D37-8206-4AC66FAF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553-5562-4472-9786-03A353A8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A9F-06C7-4352-8641-645409C7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9B1-6DDB-43E4-885A-5C0DE516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3C7-48D3-42C0-8451-4585A9DD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FF6-E359-4913-AF9C-74B1C882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F9A-CC24-4712-8340-8160D15F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821-9BC1-4B65-833B-E09B9205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3470-027A-411E-B0CB-B525C3564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436" t="10000" r="0" b="0"/>
          <a:stretch/>
        </p:blipFill>
        <p:spPr>
          <a:xfrm>
            <a:off x="1295280" y="533520"/>
            <a:ext cx="7569360" cy="5902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6200000">
            <a:off x="-623160" y="2836800"/>
            <a:ext cx="275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 Ham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hment II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6:26:01Z</dcterms:created>
  <dc:creator>Frank H. Bauer</dc:creator>
  <dc:description/>
  <dc:language>en-US</dc:language>
  <cp:lastModifiedBy>Frank H. Bauer</cp:lastModifiedBy>
  <dcterms:modified xsi:type="dcterms:W3CDTF">2003-06-28T16:26:44Z</dcterms:modified>
  <cp:revision>1</cp:revision>
  <dc:subject/>
  <dc:title>Slide 1</dc:title>
</cp:coreProperties>
</file>